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587-7A9E-4C9E-9F08-571B6C46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A75-0BFA-45FB-9904-D43325E6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513DF-EEA4-4D43-948B-558ADE65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8515C-033C-4B2A-9E75-96C5D742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F73BE-2C6A-43A8-99EA-1D721BAB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47E04-1419-4388-B99C-E4CCF0C7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0E40D-FD7C-440C-A62B-B132B6D5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923E9-4C5C-40B3-8C4D-1F27E8EE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94E04-CE24-4FB1-BEA9-8554734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443DE-82AE-4F92-8D3C-A9705E89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945B8-018E-4D95-8959-64A242FA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80ADA-E2BE-4567-A3EE-433F311C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308-EBD0-43F9-958B-87FECF67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41FB4-0E38-4C8C-8389-92F54494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6E0CC-E11F-4AB1-A961-85808114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F6F95-85A6-4373-A84F-F5259474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F96F7-5BA5-4E58-9F04-A021D230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D82AC-AEE5-429E-B12C-EBE0A32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4266C-F84C-4B66-AE49-2828A97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97552-7934-4F0F-9173-CC9DFCB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10E2C-8D3E-409B-BE53-650C0E6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2C066-DA0A-4EE7-AA1C-F7BC4B2A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A059A-50C3-4122-8555-23B9324B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68F-273C-4DF8-BA96-D3E1A849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67C2D-728D-4F2B-838B-6F065324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4CC47-8989-4D6D-ABFB-7F6FA9A8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1FE01-B845-4E46-8808-5B21DCD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D92E2-B857-45CB-8D46-98693EC7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73BEB-CE17-4129-BACE-D336B0B0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CAEA7-D0A8-4E3E-A69F-5610F665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B34B1-5D9E-408A-A03A-F1FA78DB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2C47E-9BE1-4023-B45C-85C25578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6FA6F-2B9C-4F8D-9ADC-B8C2C4DD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14235-5378-497B-B626-B68EF4E8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7169-FBA1-4A80-AB1E-5BAC7FCB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DD44E-3EC3-4989-9F88-83980672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424F0-3457-46A2-A149-182A7146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C93D1-8D0B-406C-A67F-B2080847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6A7E4-20E1-46A2-9F0D-501936BE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485A2-3BCD-4AC6-936D-A53151FD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91B0D-3CD3-4F13-952B-828A726A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A90B5-4105-45B8-A5D5-46F52812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85761-21A2-4126-843C-7C984707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CA5D5-CD6D-45B7-B026-B1702E76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E6DDF-5E8B-48E4-A143-512AFF41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D955-6DB4-4089-AE49-007E2EB5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AE0E0-3800-4213-80D0-B15DA7F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B5799-E0E2-41C7-AF42-7A1518C1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9D4C7-D3AC-4064-BA4A-B17E5E17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EF0C3-96A9-4C2C-9AB7-71841295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B32C5-8AE1-4FC5-ABB9-C44B3ABB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2A1D7-C990-4D93-BFD9-D45136FA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9BC4A-E7D0-4CFE-9AC1-7B737A69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702F6-D19D-4AD5-8211-6668A7E7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691AC-EE49-4AE7-ADE4-86F7C2B4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4F0B4-0B60-4BBF-9CC2-2112F19F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F0BE-422C-4ABC-8CF3-76A21FFE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84563-BE72-4FDB-B946-EA47FFA8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E66F7-E2CB-447D-926B-26A2F1C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43263-4DFB-474A-B2F0-5407B0D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E9342-1D42-4EC6-9624-42CFE67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D15F7-C491-4401-B592-9D4DC7A5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2603E-4CA4-4818-BC08-A1E1C859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55C8A-CB1B-49E4-A1B2-A5F39163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81721-FF0E-455C-98A1-2E25E65A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C96DB-E100-403C-BCA7-9270BCA7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1A862-677A-4FAC-8A7E-6C31EA9B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F58B-F43B-4923-89C8-7635FD87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F2903-169B-4263-AAF3-0D514D57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1B975-1EA9-45A5-AC69-BA46E1E4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C5C0E-9227-490F-AACA-B44882FE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3DF6A-2907-4102-8BAB-AC380AB0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6DCE2-52BF-4211-9814-39C6677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4273C-8221-4F7A-B3DF-AAF4578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6B2BE-6996-4A1B-9BA6-5C949B06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F7783-DD36-4EA1-8A96-4F47C9E0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7884D-670B-4588-B40F-7F0F2612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1DE3A-4756-46DB-92C1-D19303B2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C992-8080-4FFF-9F2C-81792FC8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44FA9-1359-408F-8369-B3A96B20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74B3B-082E-4624-8041-E79EA11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0F2F6-C8BF-41F9-A02B-343E8854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02451-0583-472D-9576-2E23CD19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47FED-0B0E-4728-94FF-E95AEC60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B76C4-0CAA-4D3C-8036-2DBF0AE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FA1E3-5088-4EBB-A1FF-1B47909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4B745-9795-4AAB-983D-3FED722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0A02C-635D-48E3-884E-8AF78E4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87BF5-A153-4FE7-9594-73BCB1D4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99DC-AD9F-433D-B1C1-F6E79ED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979AE-553F-4B7F-B5E2-C819335D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CF8D4-F31D-47A9-9BAE-4FAFA606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C3027-C1A9-40CB-B4C2-7C0D0715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509AA4-1834-495A-848C-42D26A95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B7E28-E535-4E34-B1D4-DA1139AD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CB647-F886-4B92-9A62-CFBA853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0AEEC-ADF4-4B09-A15E-E460E4E2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28982-928B-4C06-9927-F89009A7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82082-AC40-4211-81C3-D83E4A56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7CCE2-B0B2-4A4A-97DF-AD0BBE0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5200-8D93-4EE4-A795-9B20B966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9FE3D-24FC-4F4C-B2D5-2984A7EB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A67B3-533B-400E-9574-B6020A08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605B6-7D73-4E27-A5B4-A2C356A7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9F0C4-F791-441A-95BC-23CF0338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87ED4-DFB6-4A88-828C-2B429FB3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9DA34-3F18-46B5-9DC8-39285918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CEA45-6938-4995-A7C3-CC953A29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E216D-B07D-4E88-B31B-11BE2E84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B85D4-6DBD-4557-8F9C-726AC45B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84215-94B8-473E-AF52-2A56F862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BDE-0D50-4B33-AFBA-FC1E23BB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3281-3A0A-4DC5-87D3-E1B6B67B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659DA-4463-4015-B619-6A496B4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EB72B-84DA-4CAF-90FE-0FD18DDE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5D3CA-20A7-4FA4-8981-2F025EBB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B1DEE-59E2-4CBF-B7E7-F85A04CC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37AFCC-909A-4B7B-BD60-AAAB5705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804952-9019-42DE-AEA2-30E51C9D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73E49-D273-4BDF-B98E-40FE5FAB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4BAF5-2E7F-475B-AA7F-3CFAD1E8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00760-6B93-4963-8207-9D2C0215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82805-DF0C-4CAB-86CD-036A32A5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0715-D9F2-4D67-B98A-C0271F4F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E05B1-0463-4955-9067-62826254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F3EDB-EEE3-495C-8E4B-F0386C2E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6D569-BDD6-4911-9D8C-88AF6849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3EC78-81C4-4AAF-AD58-C66D865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A748C-19ED-45DC-97B7-4980CBCB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B8F73-3019-417C-AD1E-42B8E1B3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204AF-DC08-4E5D-8205-8B46DE45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D0039-1274-4629-B787-F84BCE65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F73C7-4AD1-4D41-9D36-D347530F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5A77AE-EF60-4F4A-919C-731DDC68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41D3-6CC0-442F-A27D-72D314A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1115F4-E70A-448F-8982-44C63407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A7636-E1F3-4046-9639-63B4810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B05C3-C130-402B-8092-C31319B0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8F09F-94C3-42CC-B974-525B926E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CB26C-2A4E-4A36-AE90-6917681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30D29A-C126-4B98-BEA0-22B052C2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C0596-37BC-45F7-989A-904D8086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A3993-9AD6-4129-9185-A0E872E2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E547B-BA82-4741-A965-C04A1A2A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02695-A73B-4636-A5C9-6B7E7851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0B0-D20E-408F-B4E8-913BE14C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37DA4-C2FD-4339-8B64-184614BF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1F3DD-3399-4E70-A2E9-5789ADD7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4C0A98-4249-46E4-8236-83EC9FBD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91F72-C96A-4BA5-8776-25365A19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3786E-9880-4C6C-83AE-A03D3734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714E9-F96E-4CAC-A7EC-E0D8BC1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A7FA5-D1A4-4771-A148-42BB8656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5E46F-1855-47B6-AF17-2DF73905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0D7478-77F4-443E-A0E2-FD69C9D4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C25AC-7CA2-473A-844F-F51D4522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B072-5728-4C1D-B6D8-F06ED77F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84F45E-DFAB-4B09-8203-AF3C639D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33CFB4-2D4F-4F79-BCE9-06B49B19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3BE892-DD41-4717-8FF1-BE895D4B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57A23F-CE30-4D22-8CDD-9FAAC575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75C339-98CA-4203-94F6-D04A354E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C4094A-B4C2-4ADF-9E1A-21D3E0EF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A2C685-6870-409E-8452-D7982CE6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62060-3D6B-42C9-8B36-67666C4A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4DE180-16DA-465B-B588-FA21D562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3402B0-E493-4238-ACAF-3C34E4F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36DA-26D4-476D-A7E4-12A5A7D6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6D896-85B5-4A06-8BBE-F1866947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49F06-2143-493A-8B3E-B8B9ED13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D554C-0F39-4829-ACD6-27054133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4C9E-858F-443A-9B3A-CA99BB9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BB37-BA2D-4E0D-8F08-0CFC8C21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F349-5DFA-4A89-9F47-6BA6B6A9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FA64-EF96-475F-A785-E921BDB9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94B-5C4C-4D1C-BB07-AAB14687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667D-D74D-4B18-9F30-B72B0EB3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1D94-D23C-432E-A7AA-F0167EC0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869A-2FE9-4395-865B-2E3510B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DB756-A854-47A6-A805-FF85BEAF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E954-F0EB-47B1-A4E2-6C70384F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09FD5-62B6-4B14-A51E-FD1C2F2D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4404-DA94-4BEF-AA38-C853B0E7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BD29-E1C6-4C8B-854E-EDAB420B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99B6A-FD2C-44CB-AE24-7D4E4968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84A7-C035-4123-A2CE-D24F2BBA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0D3-112A-4EEF-8A21-E7E7FB62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96B1-529F-4040-8350-95C88EC2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6D9C-5ADB-444B-942C-66FA8DDF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1BED-1003-4C98-B3F8-5F3AD0D2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13D9-7654-4E59-8602-F8387A01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EE6F-F299-4F58-BF06-0B12476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B50C-860A-4F9E-9F64-3A730D17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A93E-7DD1-4B23-B704-479154F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AB95-DB25-4E01-AB77-5CD3F0CA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7F572-1AAD-4B6B-B5A4-D2459EB8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98436-59F9-4907-9026-214A52BF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8BC-AA60-44E4-9650-49705275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651DC-F189-4448-93B8-43280628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937C-8A36-46C4-B1B4-AABCD406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D7407-B81D-4255-AF06-22264313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C752F-6E89-4D00-AC96-EA3389F1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7096-A6E0-4745-9B86-C994473E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8B5E-7C64-4F91-88C9-95B92378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3574-3C12-4C06-A6CE-9068872E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F6376-B9A0-4805-BC79-2FC873B5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76737-EAC8-45E7-97D2-1C71B26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1388E-08F1-498D-AD0D-D2FF63B7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AA9-6CB6-4EE8-B5AF-F0DE70B0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6124-9E8C-4FFA-B74F-4FC884E2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B90A5-21BC-4CA7-9976-B36734B4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6010-4C11-4DF1-9A62-AA863BF7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1033-D4F9-488D-95D0-C565BD89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D7F8C-D1F3-485E-9192-555A7148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BFEEF-2242-4FA3-9558-52F7EDBC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85719-9585-4D71-9713-A42E523A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E3C0F-C019-4181-8200-A8FF8BFF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9C59-03D0-4AE5-A775-9E513D46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D0BB-605D-4FE2-8175-6FCD2427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67A-05C4-42D6-9AEC-7D27C54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3C0A7-7915-4718-B311-B48B61DB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05375-60A2-44B9-AF21-FF182680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DAE63-E647-4C70-B27D-115C4157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1EDD8-A19A-4EDC-B011-BFF0E882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C99F1-7CEE-4838-B7C5-F9F3CF39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5D191-7D4A-46AF-8AFF-95BC092C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89BCB-CC30-45AA-B1F6-B5EECE46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5027-4A0C-4930-8C6B-C81FEFF0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B30B-9E09-4E3C-99C9-94404A8B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12CD-14DC-41F5-92BB-2010AAD8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7F5-C03B-4ABE-9101-DD554EF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1D53E-1F48-4E38-A03B-54339FE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2060-BF9D-4C36-A9EA-C3E4660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16EA6-97D5-4EC2-9BC5-EC8B9C6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E971-241F-426E-AA53-E1A35DE7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154D6-9FE1-4AC2-AD58-5A0DED37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BC5DF-3354-4156-8246-9FBE503B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BB5A4-9077-4142-A5DD-5E03648C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831E-D68F-4147-8313-5C03DA52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19C7-CFB0-4C41-A898-926928C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EA4CC-7DDF-4EC9-8543-A11CAD62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925-32B0-4962-928D-8AB87F0F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E73A7-E4CC-4B88-85F3-78FA280D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26E55-3D2D-4F1D-BBA9-EF8EF0F1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ECB53-060E-48AB-9136-C443320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4F853-A54A-4E79-AA22-3C1682C2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E294A-A2F9-4E74-BE52-78776E6B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02A8D-47D4-424C-96F9-65DAF81C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92A57-3567-4E53-A3F6-260498E3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7A39D-FAD7-4DB9-80C5-B4EB3B3D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4E517-F514-445A-9912-5C8D3AC9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9E82B-3C38-4195-A313-ACD64D04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F20B-00A0-4411-A9C9-0AD18FCB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2F52-E82D-4C63-84BF-7A204019A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49DB-E2B5-43CD-85C8-F9D2F1C52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8F09-6789-43D4-8D49-BC1C7905B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78F7-D284-476D-A9EB-BB2DE4895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41DC-B0B8-49AC-AE59-CA278F9EBD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5FC5-1533-4F93-943E-AC629126AA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5EC9-B796-407B-B24B-ABC58DBED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D29F-FDEF-453D-9700-C1FA20E13A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1629-8D07-4411-B915-07FF62DC28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8166-419B-45D0-85E6-12E5D69757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BE2E-2939-455C-865B-42BF36B9A1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96C9-19E4-47B2-BD47-CDDBBE3A4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0F15-C7F3-4670-8150-C096EE15B2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A7F7-7CD5-485F-9D88-7CE20BD2A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B136-4CCE-4066-A409-435B3CC53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A755-309A-49D2-97DE-51722F8FE4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198F-251D-419A-A0A2-F7A32AD83E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3F0-6B01-41D6-9650-FB675F6670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077-B582-4BB0-92B9-3F6B4CC8C3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96E7-8D1B-4EF8-9270-8702987563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F4EC-A62D-4769-89C2-FF5767432A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A411-CFAA-4F0A-B35C-BCC18C36EA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6738-A8BC-4345-B3B1-5C6DE3F7B7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4FBA-8F1B-4C41-AA72-BC9AACFC8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A32B-12F0-4238-8647-CAF1D73A19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A28-D9A8-4BFA-90EA-9DB891507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7803-52EA-4476-9DC6-0A7D60689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A371-F21E-43CA-9572-4473A84CF7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4B95-CD83-4DD8-94B1-A232663E39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85D4-1463-4254-B3DF-7C86358899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EFE1-316B-47F0-BD87-272100FF8F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CC45-9ADF-402E-8BD6-D92CE122E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A46-A7C7-4398-9764-70DFA9F0B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3782-8789-4AC6-AD8A-7C35759E68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72BB-7A50-4D75-9AA8-F5D61D093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1252-1B9C-467F-8FAD-63671DD72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7E9F-8EA8-42BE-8E6A-DCD1C8B7DD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799-50A3-4426-84E1-DD0500608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E637-59AD-43D6-9DC8-BA7C69B3A0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09680" y="3124080"/>
            <a:ext cx="83246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57320" y="906480"/>
            <a:ext cx="8827920" cy="58388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3"/>
          <a:stretch/>
        </p:blipFill>
        <p:spPr>
          <a:xfrm>
            <a:off x="811080" y="1589040"/>
            <a:ext cx="81536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2" name="组合 5135"/>
          <p:cNvGrpSpPr/>
          <p:nvPr/>
        </p:nvGrpSpPr>
        <p:grpSpPr>
          <a:xfrm>
            <a:off x="142920" y="863640"/>
            <a:ext cx="8858160" cy="5371920"/>
            <a:chOff x="142920" y="863640"/>
            <a:chExt cx="8858160" cy="5371920"/>
          </a:xfrm>
        </p:grpSpPr>
        <p:pic>
          <p:nvPicPr>
            <p:cNvPr id="1033" name="图片 1" descr=""/>
            <p:cNvPicPr/>
            <p:nvPr/>
          </p:nvPicPr>
          <p:blipFill>
            <a:blip r:embed="rId1"/>
            <a:stretch/>
          </p:blipFill>
          <p:spPr>
            <a:xfrm>
              <a:off x="142920" y="863640"/>
              <a:ext cx="8858160" cy="53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1" descr=""/>
            <p:cNvPicPr/>
            <p:nvPr/>
          </p:nvPicPr>
          <p:blipFill>
            <a:blip r:embed="rId2"/>
            <a:stretch/>
          </p:blipFill>
          <p:spPr>
            <a:xfrm>
              <a:off x="1547640" y="4451400"/>
              <a:ext cx="7201080" cy="14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33200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2627280" y="1557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428472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550872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702000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8"/>
          <a:stretch/>
        </p:blipFill>
        <p:spPr>
          <a:xfrm>
            <a:off x="824400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9"/>
          <a:stretch/>
        </p:blipFill>
        <p:spPr>
          <a:xfrm>
            <a:off x="1332000" y="21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0"/>
          <a:stretch/>
        </p:blipFill>
        <p:spPr>
          <a:xfrm>
            <a:off x="2627280" y="21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1"/>
          <a:stretch/>
        </p:blipFill>
        <p:spPr>
          <a:xfrm>
            <a:off x="4211640" y="21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2"/>
          <a:stretch/>
        </p:blipFill>
        <p:spPr>
          <a:xfrm>
            <a:off x="5292720" y="21477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3"/>
          <a:stretch/>
        </p:blipFill>
        <p:spPr>
          <a:xfrm>
            <a:off x="6977160" y="2174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4"/>
          <a:stretch/>
        </p:blipFill>
        <p:spPr>
          <a:xfrm>
            <a:off x="8101080" y="2147760"/>
            <a:ext cx="431640" cy="384480"/>
          </a:xfrm>
          <a:prstGeom prst="rect">
            <a:avLst/>
          </a:prstGeom>
          <a:ln w="0">
            <a:noFill/>
          </a:ln>
        </p:spPr>
      </p:pic>
      <p:sp>
        <p:nvSpPr>
          <p:cNvPr id="1047" name="直接连接符 5136"/>
          <p:cNvSpPr/>
          <p:nvPr/>
        </p:nvSpPr>
        <p:spPr>
          <a:xfrm>
            <a:off x="1692360" y="4437000"/>
            <a:ext cx="1079280" cy="1513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直接连接符 5137"/>
          <p:cNvSpPr/>
          <p:nvPr/>
        </p:nvSpPr>
        <p:spPr>
          <a:xfrm flipH="1">
            <a:off x="1547280" y="4451400"/>
            <a:ext cx="1729080" cy="14986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5138"/>
          <p:cNvSpPr/>
          <p:nvPr/>
        </p:nvSpPr>
        <p:spPr>
          <a:xfrm>
            <a:off x="5003640" y="4479840"/>
            <a:ext cx="2808360" cy="14702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5139"/>
          <p:cNvSpPr/>
          <p:nvPr/>
        </p:nvSpPr>
        <p:spPr>
          <a:xfrm flipH="1">
            <a:off x="4642920" y="4451400"/>
            <a:ext cx="1729080" cy="14986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5140"/>
          <p:cNvSpPr/>
          <p:nvPr/>
        </p:nvSpPr>
        <p:spPr>
          <a:xfrm flipH="1">
            <a:off x="6300720" y="4437000"/>
            <a:ext cx="1728720" cy="14986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4" name="组合 6148"/>
          <p:cNvGrpSpPr/>
          <p:nvPr/>
        </p:nvGrpSpPr>
        <p:grpSpPr>
          <a:xfrm>
            <a:off x="185760" y="871560"/>
            <a:ext cx="8772480" cy="5505480"/>
            <a:chOff x="185760" y="871560"/>
            <a:chExt cx="8772480" cy="5505480"/>
          </a:xfrm>
        </p:grpSpPr>
        <p:pic>
          <p:nvPicPr>
            <p:cNvPr id="1055" name="图片 1" descr=""/>
            <p:cNvPicPr/>
            <p:nvPr/>
          </p:nvPicPr>
          <p:blipFill>
            <a:blip r:embed="rId1"/>
            <a:stretch/>
          </p:blipFill>
          <p:spPr>
            <a:xfrm>
              <a:off x="185760" y="871560"/>
              <a:ext cx="8771040" cy="54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图片 6147" descr=""/>
            <p:cNvPicPr/>
            <p:nvPr/>
          </p:nvPicPr>
          <p:blipFill>
            <a:blip r:embed="rId2"/>
            <a:stretch/>
          </p:blipFill>
          <p:spPr>
            <a:xfrm>
              <a:off x="671400" y="1509840"/>
              <a:ext cx="8286840" cy="486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7" name="椭圆 6149"/>
          <p:cNvSpPr/>
          <p:nvPr/>
        </p:nvSpPr>
        <p:spPr>
          <a:xfrm>
            <a:off x="1403280" y="314172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椭圆 6150"/>
          <p:cNvSpPr/>
          <p:nvPr/>
        </p:nvSpPr>
        <p:spPr>
          <a:xfrm>
            <a:off x="4356000" y="314172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椭圆 6151"/>
          <p:cNvSpPr/>
          <p:nvPr/>
        </p:nvSpPr>
        <p:spPr>
          <a:xfrm>
            <a:off x="7956720" y="306864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椭圆 6152"/>
          <p:cNvSpPr/>
          <p:nvPr/>
        </p:nvSpPr>
        <p:spPr>
          <a:xfrm>
            <a:off x="2050920" y="573408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椭圆 6153"/>
          <p:cNvSpPr/>
          <p:nvPr/>
        </p:nvSpPr>
        <p:spPr>
          <a:xfrm>
            <a:off x="5003640" y="580536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椭圆 6154"/>
          <p:cNvSpPr/>
          <p:nvPr/>
        </p:nvSpPr>
        <p:spPr>
          <a:xfrm>
            <a:off x="7380360" y="566100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5:17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